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643-BDB5-4FD2-A06C-A9FE6282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591-AE50-423D-822F-D1454BD1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3D9-DEA4-4080-9DDB-A9FF13D3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74C-BFDB-4AAB-BBA0-F6C1A0FF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58AB-742B-452A-B767-DD00377F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86C6-5F2A-444A-9424-E9E02DDE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EB29-FEB1-4EEB-B489-A7BB70C9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3002-B321-4085-910A-BCFFAFBF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3164-4DCB-442A-88EE-08DCF3CE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931D-26FC-4ECE-9CCF-6F26926D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835E-4F14-4531-BF71-9802F442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CED-9696-438F-8A96-C51E003C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30DA-804B-40BD-B0BD-64AE2BE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BB52-BBC4-456A-898E-29B03E61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E1E1-0953-4E71-8C58-5599CDC6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49B3-8F04-4497-9A33-3E99F9F2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8068-E6F4-464C-B88E-D6C00E1E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3002-DFC4-40EF-930D-DDD2213F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A938-1427-4F0B-ACA8-7CCC42FD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F81B-C1BC-4D51-A83F-F71B6211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3EE8-C248-4B3B-9AA4-6E737A44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6C61-7DBD-49DA-A68E-CC76BCC4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862-75D5-4CBA-8291-5693F6E9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9ADD-0FD6-4818-99AD-124DA1C9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83F6C-2D11-4A7A-971E-CD58DE50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EBAB-1DE9-43FF-B046-DBB8CFFE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F472-F1BD-4603-A14C-02DF884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5FA60-76D5-454A-A2F1-80CE29C5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A85B-B096-4778-AA34-D66ADAAA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D5981-DE7C-4EFE-BD41-E2885189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59E-C693-4A9E-84F5-FDE9ABD2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BD8-B60E-47CD-83F4-F017AC44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BAF-B825-480C-982B-4E78EF04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B65-39B0-4199-9299-4C372775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64B-6EE9-4576-9F58-8D0AC1DE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140-FFC8-44BB-8AAB-EEA88ED5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7172-14D2-44C9-90D1-472D785F7F71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8917-B37A-4CB9-B8AA-84575E6B9E52}" type="slidenum">
              <a:rPr b="0" lang="ru-RU" sz="1200" spc="-1" strike="noStrike">
                <a:solidFill>
                  <a:srgbClr val="cce1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775E-0FF7-4ADA-839A-42285103527F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08000" y="1125360"/>
            <a:ext cx="8856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Результаты                                пробного экзамена по математике в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11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классе, проведённого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30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марта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года (профильный уровень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547640" y="54936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26920" y="1557360"/>
          <a:ext cx="7486920" cy="4183200"/>
        </p:xfrm>
        <a:graphic>
          <a:graphicData uri="http://schemas.openxmlformats.org/drawingml/2006/table">
            <a:tbl>
              <a:tblPr/>
              <a:tblGrid>
                <a:gridCol w="632160"/>
                <a:gridCol w="3584520"/>
                <a:gridCol w="1092240"/>
                <a:gridCol w="1085760"/>
                <a:gridCol w="1092240"/>
              </a:tblGrid>
              <a:tr h="83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765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втор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1916280"/>
          <a:ext cx="8589960" cy="3387600"/>
        </p:xfrm>
        <a:graphic>
          <a:graphicData uri="http://schemas.openxmlformats.org/drawingml/2006/table">
            <a:tbl>
              <a:tblPr/>
              <a:tblGrid>
                <a:gridCol w="630360"/>
                <a:gridCol w="2635200"/>
                <a:gridCol w="716040"/>
                <a:gridCol w="701640"/>
                <a:gridCol w="357120"/>
                <a:gridCol w="360360"/>
                <a:gridCol w="698400"/>
                <a:gridCol w="442800"/>
                <a:gridCol w="443160"/>
                <a:gridCol w="717480"/>
                <a:gridCol w="442800"/>
                <a:gridCol w="444600"/>
              </a:tblGrid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810"/>
          <p:cNvSpPr/>
          <p:nvPr/>
        </p:nvSpPr>
        <p:spPr>
          <a:xfrm>
            <a:off x="900000" y="658656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19"/>
          <p:cNvSpPr/>
          <p:nvPr/>
        </p:nvSpPr>
        <p:spPr>
          <a:xfrm>
            <a:off x="684360" y="5589720"/>
            <a:ext cx="48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20"/>
          <p:cNvSpPr/>
          <p:nvPr/>
        </p:nvSpPr>
        <p:spPr>
          <a:xfrm>
            <a:off x="971640" y="566100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не приступ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 – выполнили 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53880" y="1298520"/>
          <a:ext cx="8697960" cy="4919760"/>
        </p:xfrm>
        <a:graphic>
          <a:graphicData uri="http://schemas.openxmlformats.org/drawingml/2006/table">
            <a:tbl>
              <a:tblPr/>
              <a:tblGrid>
                <a:gridCol w="471600"/>
                <a:gridCol w="2033640"/>
                <a:gridCol w="604800"/>
                <a:gridCol w="573120"/>
                <a:gridCol w="334800"/>
                <a:gridCol w="574920"/>
                <a:gridCol w="334800"/>
                <a:gridCol w="335160"/>
                <a:gridCol w="568080"/>
                <a:gridCol w="370080"/>
                <a:gridCol w="573120"/>
                <a:gridCol w="573120"/>
                <a:gridCol w="574560"/>
                <a:gridCol w="441360"/>
                <a:gridCol w="33480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525"/>
          <p:cNvSpPr/>
          <p:nvPr/>
        </p:nvSpPr>
        <p:spPr>
          <a:xfrm>
            <a:off x="360360" y="47628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втор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79280" y="1052640"/>
            <a:ext cx="87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 пробном экзамене                   по математике приняли участие </a:t>
            </a: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3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человек                      из </a:t>
            </a: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6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общеобразовательных учреждени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755640" y="907920"/>
            <a:ext cx="775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оличество баллов, набранных учащимися, распределилось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2276640"/>
          <a:ext cx="8229600" cy="4103640"/>
        </p:xfrm>
        <a:graphic>
          <a:graphicData uri="http://schemas.openxmlformats.org/drawingml/2006/table">
            <a:tbl>
              <a:tblPr/>
              <a:tblGrid>
                <a:gridCol w="4336920"/>
                <a:gridCol w="3892680"/>
              </a:tblGrid>
              <a:tr h="158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0 до 5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ученик</a:t>
                      </a:r>
                      <a:r>
                        <a:rPr b="1" lang="tt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 до 12 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учеников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)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ше 12 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ченика (31%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99"/>
          <p:cNvSpPr/>
          <p:nvPr/>
        </p:nvSpPr>
        <p:spPr>
          <a:xfrm>
            <a:off x="684360" y="692280"/>
            <a:ext cx="77403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езультаты экзамена по матема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о общеобразовательным учреждени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2133720"/>
          <a:ext cx="8713800" cy="2722320"/>
        </p:xfrm>
        <a:graphic>
          <a:graphicData uri="http://schemas.openxmlformats.org/drawingml/2006/table">
            <a:tbl>
              <a:tblPr/>
              <a:tblGrid>
                <a:gridCol w="649080"/>
                <a:gridCol w="5176800"/>
                <a:gridCol w="288792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образовательного уч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ервичны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оргуз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ерхнеуслонская гимназ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а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аку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556"/>
          <p:cNvSpPr/>
          <p:nvPr/>
        </p:nvSpPr>
        <p:spPr>
          <a:xfrm>
            <a:off x="2195640" y="580536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редний первичный бал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о району – 9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-1985040" y="692280"/>
            <a:ext cx="130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оличество баллов, набранных учащимися в разрезе ш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8000" y="1557360"/>
          <a:ext cx="8785080" cy="3754440"/>
        </p:xfrm>
        <a:graphic>
          <a:graphicData uri="http://schemas.openxmlformats.org/drawingml/2006/table">
            <a:tbl>
              <a:tblPr/>
              <a:tblGrid>
                <a:gridCol w="2733480"/>
                <a:gridCol w="1247760"/>
                <a:gridCol w="454320"/>
                <a:gridCol w="422280"/>
                <a:gridCol w="368280"/>
                <a:gridCol w="409320"/>
                <a:gridCol w="336600"/>
                <a:gridCol w="414360"/>
                <a:gridCol w="308160"/>
                <a:gridCol w="433440"/>
                <a:gridCol w="371160"/>
                <a:gridCol w="414360"/>
                <a:gridCol w="436680"/>
                <a:gridCol w="43488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 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68360" y="1628640"/>
          <a:ext cx="8423280" cy="4310280"/>
        </p:xfrm>
        <a:graphic>
          <a:graphicData uri="http://schemas.openxmlformats.org/drawingml/2006/table">
            <a:tbl>
              <a:tblPr/>
              <a:tblGrid>
                <a:gridCol w="353880"/>
                <a:gridCol w="3321000"/>
                <a:gridCol w="1589400"/>
                <a:gridCol w="1422360"/>
                <a:gridCol w="1736640"/>
              </a:tblGrid>
              <a:tr h="99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не преодолели по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Верхнеусло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Верхнеуслонская гимназия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Маку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Коргузи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Кура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305"/>
          <p:cNvSpPr/>
          <p:nvPr/>
        </p:nvSpPr>
        <p:spPr>
          <a:xfrm>
            <a:off x="-1352160" y="765000"/>
            <a:ext cx="1191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Monotype Corsiva"/>
              </a:rPr>
              <a:t>Статистика в разрезе общеобразовательных учре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9280" y="907920"/>
          <a:ext cx="8713800" cy="5819760"/>
        </p:xfrm>
        <a:graphic>
          <a:graphicData uri="http://schemas.openxmlformats.org/drawingml/2006/table">
            <a:tbl>
              <a:tblPr/>
              <a:tblGrid>
                <a:gridCol w="970200"/>
                <a:gridCol w="5167080"/>
                <a:gridCol w="722520"/>
                <a:gridCol w="1131840"/>
                <a:gridCol w="722160"/>
              </a:tblGrid>
              <a:tr h="476280"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роверяем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решать уравнения и нераве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вычисления и пре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использовать приобретенные знания и умения в практической деятельности и повседневной жизни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93"/>
          <p:cNvSpPr/>
          <p:nvPr/>
        </p:nvSpPr>
        <p:spPr>
          <a:xfrm>
            <a:off x="-33480" y="259560"/>
            <a:ext cx="92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Сравнительная информация по зад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-1409400" y="907920"/>
            <a:ext cx="120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8000" y="1700280"/>
          <a:ext cx="8493120" cy="2754360"/>
        </p:xfrm>
        <a:graphic>
          <a:graphicData uri="http://schemas.openxmlformats.org/drawingml/2006/table">
            <a:tbl>
              <a:tblPr/>
              <a:tblGrid>
                <a:gridCol w="426960"/>
                <a:gridCol w="2452680"/>
                <a:gridCol w="596880"/>
                <a:gridCol w="736560"/>
                <a:gridCol w="736560"/>
                <a:gridCol w="735120"/>
                <a:gridCol w="736560"/>
                <a:gridCol w="736560"/>
                <a:gridCol w="596880"/>
                <a:gridCol w="73836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68360" y="1844640"/>
          <a:ext cx="8466120" cy="3989520"/>
        </p:xfrm>
        <a:graphic>
          <a:graphicData uri="http://schemas.openxmlformats.org/drawingml/2006/table">
            <a:tbl>
              <a:tblPr/>
              <a:tblGrid>
                <a:gridCol w="936720"/>
                <a:gridCol w="4997160"/>
                <a:gridCol w="698760"/>
                <a:gridCol w="1135080"/>
                <a:gridCol w="698400"/>
              </a:tblGrid>
              <a:tr h="1178280"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роверяемые треб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использовать приобретенные знания и умения в практической деятельности и повседневно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285"/>
          <p:cNvSpPr/>
          <p:nvPr/>
        </p:nvSpPr>
        <p:spPr>
          <a:xfrm>
            <a:off x="138600" y="836640"/>
            <a:ext cx="92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Сравнительная информация по зад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21:33Z</dcterms:created>
  <dc:creator>Елена</dc:creator>
  <dc:description/>
  <dc:language>en-US</dc:language>
  <cp:lastModifiedBy>Нина Хайруллина</cp:lastModifiedBy>
  <dcterms:modified xsi:type="dcterms:W3CDTF">2022-04-13T13:48:00Z</dcterms:modified>
  <cp:revision>176</cp:revision>
  <dc:subject/>
  <dc:title>Этапы компьютерного моделирования</dc:title>
</cp:coreProperties>
</file>